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907588" cy="6858000"/>
  <p:notesSz cx="9623425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79360" y="838080"/>
            <a:ext cx="3657600" cy="56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Available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" name=""/>
          <p:cNvGraphicFramePr/>
          <p:nvPr/>
        </p:nvGraphicFramePr>
        <p:xfrm>
          <a:off x="1604880" y="1766880"/>
          <a:ext cx="6615360" cy="458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4880" y="1766880"/>
                    <a:ext cx="661536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" name=""/>
          <p:cNvSpPr/>
          <p:nvPr/>
        </p:nvSpPr>
        <p:spPr>
          <a:xfrm>
            <a:off x="1017720" y="6274800"/>
            <a:ext cx="79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Diameter and Tolerance of solder balls are according to customer’s requirem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728640"/>
            <a:ext cx="3886200" cy="41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Advantages of our solder bal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660680"/>
            <a:ext cx="8381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cc"/>
                </a:solidFill>
                <a:latin typeface="Times New Roman"/>
              </a:rPr>
              <a:t>1.Non-Discoloring Trea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After Harsh Shaking(20min.) There was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Times New Roman"/>
              </a:rPr>
              <a:t>No surface darkening , soldering failure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founded with our factory developing water soluble flux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438200" y="3429000"/>
            <a:ext cx="2667240" cy="2160720"/>
            <a:chOff x="1438200" y="3429000"/>
            <a:chExt cx="2667240" cy="216072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1438200" y="3429000"/>
              <a:ext cx="266724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438200" y="3429000"/>
              <a:ext cx="2667240" cy="2160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857920" y="3429000"/>
            <a:ext cx="2362320" cy="2160720"/>
            <a:chOff x="5857920" y="3429000"/>
            <a:chExt cx="2362320" cy="2160720"/>
          </a:xfrm>
        </p:grpSpPr>
        <p:sp>
          <p:nvSpPr>
            <p:cNvPr id="48" name=""/>
            <p:cNvSpPr/>
            <p:nvPr/>
          </p:nvSpPr>
          <p:spPr>
            <a:xfrm>
              <a:off x="5857920" y="3429000"/>
              <a:ext cx="2362320" cy="2160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9" name=""/>
            <p:cNvGraphicFramePr/>
            <p:nvPr/>
          </p:nvGraphicFramePr>
          <p:xfrm>
            <a:off x="5857920" y="3429000"/>
            <a:ext cx="2362320" cy="1739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857920" y="3429000"/>
                      <a:ext cx="2362320" cy="173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" name=""/>
            <p:cNvSpPr/>
            <p:nvPr/>
          </p:nvSpPr>
          <p:spPr>
            <a:xfrm>
              <a:off x="5857920" y="5105520"/>
              <a:ext cx="2362320" cy="4842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ffffff"/>
                  </a:solidFill>
                  <a:latin typeface="굴림"/>
                </a:rPr>
                <a:t>After 5Min. Shaking,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ffffff"/>
                  </a:solidFill>
                  <a:latin typeface="굴림"/>
                </a:rPr>
                <a:t>Rel. Comparis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267680" y="3738600"/>
              <a:ext cx="80028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DSH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32520" y="3659040"/>
              <a:ext cx="89244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A Compan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4413240" y="3478320"/>
            <a:ext cx="1139760" cy="2008080"/>
          </a:xfrm>
          <a:custGeom>
            <a:avLst/>
            <a:gdLst>
              <a:gd name="textAreaLeft" fmla="*/ 249480 w 1139760"/>
              <a:gd name="textAreaRight" fmla="*/ 890280 w 1139760"/>
              <a:gd name="textAreaTop" fmla="*/ 440640 h 2008080"/>
              <a:gd name="textAreaBottom" fmla="*/ 1567440 h 2008080"/>
            </a:gdLst>
            <a:ahLst/>
            <a:rect l="textAreaLeft" t="textAreaTop" r="textAreaRight" b="textAreaBottom"/>
            <a:pathLst>
              <a:path w="21600" h="21600">
                <a:moveTo>
                  <a:pt x="0" y="4742"/>
                </a:moveTo>
                <a:lnTo>
                  <a:pt x="13163" y="4742"/>
                </a:lnTo>
                <a:lnTo>
                  <a:pt x="13163" y="0"/>
                </a:lnTo>
                <a:lnTo>
                  <a:pt x="21600" y="10800"/>
                </a:lnTo>
                <a:lnTo>
                  <a:pt x="13163" y="21600"/>
                </a:lnTo>
                <a:lnTo>
                  <a:pt x="13163" y="16858"/>
                </a:lnTo>
                <a:lnTo>
                  <a:pt x="0" y="16858"/>
                </a:lnTo>
                <a:lnTo>
                  <a:pt x="4733" y="10800"/>
                </a:lnTo>
                <a:lnTo>
                  <a:pt x="0" y="474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81160" y="6058080"/>
            <a:ext cx="75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 can see the amazing effectiveness of Non-discolor balls in your hands 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62120" y="1660680"/>
            <a:ext cx="8381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cc"/>
                </a:solidFill>
                <a:latin typeface="Times New Roman"/>
              </a:rPr>
              <a:t>2. Competitve Price &amp; Accurate size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By unique Process (PAP) which shorten process and better control of ball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by pulse generating proc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cc"/>
                </a:solidFill>
                <a:latin typeface="Times New Roman"/>
              </a:rPr>
              <a:t>3. Low melting point Solder 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We can share information about how to lower melting point of Pb Free Solder 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728640"/>
            <a:ext cx="3886200" cy="41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Advantages of our solder bal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hicom</cp:lastModifiedBy>
  <cp:lastPrinted>2001-08-14T07:44:35Z</cp:lastPrinted>
  <dcterms:modified xsi:type="dcterms:W3CDTF">2001-08-14T07:44:50Z</dcterms:modified>
  <cp:revision>3</cp:revision>
  <dc:subject/>
  <dc:title>無投影片標題</dc:title>
</cp:coreProperties>
</file>