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9.wmf" ContentType="image/x-wmf"/>
  <Override PartName="/ppt/media/image48.wmf" ContentType="image/x-wmf"/>
  <Override PartName="/ppt/media/image33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21.png" ContentType="image/png"/>
  <Override PartName="/ppt/media/image61.wmf" ContentType="image/x-wmf"/>
  <Override PartName="/ppt/media/image27.jpeg" ContentType="image/jpeg"/>
  <Override PartName="/ppt/media/image58.png" ContentType="image/png"/>
  <Override PartName="/ppt/media/image3.wmf" ContentType="image/x-wmf"/>
  <Override PartName="/ppt/media/image29.jpeg" ContentType="image/jpeg"/>
  <Override PartName="/ppt/media/image4.wmf" ContentType="image/x-wmf"/>
  <Override PartName="/ppt/media/image14.png" ContentType="image/png"/>
  <Override PartName="/ppt/media/image15.png" ContentType="image/png"/>
  <Override PartName="/ppt/media/image55.wmf" ContentType="image/x-wmf"/>
  <Override PartName="/ppt/media/image56.wmf" ContentType="image/x-wmf"/>
  <Override PartName="/ppt/media/image16.png" ContentType="image/png"/>
  <Override PartName="/ppt/media/image28.jpeg" ContentType="image/jpeg"/>
  <Override PartName="/ppt/media/image10.png" ContentType="image/png"/>
  <Override PartName="/ppt/media/image36.jpeg" ContentType="image/jpeg"/>
  <Override PartName="/ppt/media/image60.wmf" ContentType="image/x-wmf"/>
  <Override PartName="/ppt/media/image2.wmf" ContentType="image/x-wmf"/>
  <Override PartName="/ppt/media/image42.png" ContentType="image/png"/>
  <Override PartName="/ppt/media/image26.jpeg" ContentType="image/jpeg"/>
  <Override PartName="/ppt/media/image22.png" ContentType="image/png"/>
  <Override PartName="/ppt/media/image32.jpeg" ContentType="image/jpeg"/>
  <Override PartName="/ppt/media/image57.wmf" ContentType="image/x-wmf"/>
  <Override PartName="/ppt/media/image62.wmf" ContentType="image/x-wmf"/>
  <Override PartName="/ppt/media/image25.jpeg" ContentType="image/jpeg"/>
  <Override PartName="/ppt/media/image23.png" ContentType="image/png"/>
  <Override PartName="/ppt/media/image59.wmf" ContentType="image/x-wmf"/>
  <Override PartName="/ppt/media/image18.png" ContentType="image/png"/>
  <Override PartName="/ppt/media/image6.png" ContentType="image/png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24.jpeg" ContentType="image/jpeg"/>
  <Override PartName="/ppt/media/image52.wmf" ContentType="image/x-wmf"/>
  <Override PartName="/ppt/media/image9.png" ContentType="image/png"/>
  <Override PartName="/ppt/media/image8.wmf" ContentType="image/x-wmf"/>
  <Override PartName="/ppt/media/image40.png" ContentType="image/png"/>
  <Override PartName="/ppt/media/image13.png" ContentType="image/png"/>
  <Override PartName="/ppt/media/image53.wmf" ContentType="image/x-wmf"/>
  <Override PartName="/ppt/media/image54.jpeg" ContentType="image/jpeg"/>
  <Override PartName="/ppt/media/image30.jpeg" ContentType="image/jpeg"/>
  <Override PartName="/ppt/media/image31.jpeg" ContentType="image/jpeg"/>
  <Override PartName="/ppt/media/image47.wmf" ContentType="image/x-wmf"/>
  <Override PartName="/ppt/media/image20.png" ContentType="image/png"/>
  <Override PartName="/ppt/media/image37.jpeg" ContentType="image/jpeg"/>
  <Override PartName="/ppt/media/image38.jpeg" ContentType="image/jpeg"/>
  <Override PartName="/ppt/media/image17.png" ContentType="image/png"/>
  <Override PartName="/ppt/media/image5.png" ContentType="image/png"/>
  <Override PartName="/ppt/media/image39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C7C-468B-4AC2-AF28-F2D9834D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1DA-5A1A-47ED-BFFA-26B6CBD1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43C0-B92B-42BE-8987-9333B208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B56-B218-4154-A112-8FEF4713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ECB-FA42-4239-97EB-CCD806C6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F62-F975-4823-9F6F-D42D5CD0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406-2E0F-42CE-8EBD-0CBCEDC0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80D-402E-48A8-993A-C808B36F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D56-054B-40F7-A0A3-D0D434E6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CCD-7B51-47FB-A2C2-75D1089D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EF9-121A-4145-9458-3C76D127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894-8778-4C17-8091-4E6131F2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B71A-FB04-4670-AA34-895436162484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7467480" y="380880"/>
            <a:ext cx="1067040" cy="5335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7543800" y="5335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돋움"/>
              </a:rPr>
              <a:t>WONCOS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3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15238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4000" spc="-1" strike="noStrike">
                <a:solidFill>
                  <a:srgbClr val="0000ff"/>
                </a:solidFill>
                <a:latin typeface="Tahoma"/>
              </a:rPr>
              <a:t>Woncosa Capillary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19320" y="1143000"/>
            <a:ext cx="4267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OW CHART 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1905120"/>
            <a:ext cx="6779880" cy="4114440"/>
            <a:chOff x="1219320" y="1905120"/>
            <a:chExt cx="6779880" cy="4114440"/>
          </a:xfrm>
        </p:grpSpPr>
        <p:sp>
          <p:nvSpPr>
            <p:cNvPr id="109" name=""/>
            <p:cNvSpPr/>
            <p:nvPr/>
          </p:nvSpPr>
          <p:spPr>
            <a:xfrm>
              <a:off x="1219320" y="1996200"/>
              <a:ext cx="1599480" cy="29052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ank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3093480"/>
              <a:ext cx="1599480" cy="53388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side Grinding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9320" y="4190760"/>
              <a:ext cx="1599480" cy="77724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ngth Cutting &amp; Grinding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3560" y="1996200"/>
              <a:ext cx="1599480" cy="53388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assify by Hole Siz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81080" y="2544840"/>
              <a:ext cx="0" cy="457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81080" y="3642120"/>
              <a:ext cx="0" cy="457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4739400"/>
              <a:ext cx="0" cy="457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23560" y="3093480"/>
              <a:ext cx="1599480" cy="53388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side Grinding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3560" y="4190760"/>
              <a:ext cx="1599480" cy="53388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nter Grinding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3560" y="5288040"/>
              <a:ext cx="1599480" cy="29052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EP Grinding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5320" y="2544840"/>
              <a:ext cx="0" cy="457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85320" y="3642120"/>
              <a:ext cx="0" cy="457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5320" y="4739400"/>
              <a:ext cx="0" cy="4572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22" name="공정순서1" descr=""/>
            <p:cNvPicPr/>
            <p:nvPr/>
          </p:nvPicPr>
          <p:blipFill>
            <a:blip r:embed="rId1"/>
            <a:stretch/>
          </p:blipFill>
          <p:spPr>
            <a:xfrm>
              <a:off x="2971440" y="1905120"/>
              <a:ext cx="152316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공정순서2" descr=""/>
            <p:cNvPicPr/>
            <p:nvPr/>
          </p:nvPicPr>
          <p:blipFill>
            <a:blip r:embed="rId2"/>
            <a:stretch/>
          </p:blipFill>
          <p:spPr>
            <a:xfrm>
              <a:off x="2971440" y="3002040"/>
              <a:ext cx="1523160" cy="59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공정순서3" descr=""/>
            <p:cNvPicPr/>
            <p:nvPr/>
          </p:nvPicPr>
          <p:blipFill>
            <a:blip r:embed="rId3"/>
            <a:stretch/>
          </p:blipFill>
          <p:spPr>
            <a:xfrm>
              <a:off x="6475680" y="1905120"/>
              <a:ext cx="152352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공정순서4" descr=""/>
            <p:cNvPicPr/>
            <p:nvPr/>
          </p:nvPicPr>
          <p:blipFill>
            <a:blip r:embed="rId4"/>
            <a:stretch/>
          </p:blipFill>
          <p:spPr>
            <a:xfrm>
              <a:off x="2971440" y="4099320"/>
              <a:ext cx="1523160" cy="9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공정순서5" descr=""/>
            <p:cNvPicPr/>
            <p:nvPr/>
          </p:nvPicPr>
          <p:blipFill>
            <a:blip r:embed="rId5"/>
            <a:stretch/>
          </p:blipFill>
          <p:spPr>
            <a:xfrm>
              <a:off x="6475680" y="3002040"/>
              <a:ext cx="1523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공정순서6" descr=""/>
            <p:cNvPicPr/>
            <p:nvPr/>
          </p:nvPicPr>
          <p:blipFill>
            <a:blip r:embed="rId6"/>
            <a:stretch/>
          </p:blipFill>
          <p:spPr>
            <a:xfrm>
              <a:off x="6475680" y="4099320"/>
              <a:ext cx="1523520" cy="66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공정순서7" descr=""/>
            <p:cNvPicPr/>
            <p:nvPr/>
          </p:nvPicPr>
          <p:blipFill>
            <a:blip r:embed="rId7"/>
            <a:stretch/>
          </p:blipFill>
          <p:spPr>
            <a:xfrm>
              <a:off x="6475680" y="5196600"/>
              <a:ext cx="1523520" cy="7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219320" y="5379480"/>
              <a:ext cx="1599480" cy="53388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e Grinding &amp; Polishing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30" name="내경" descr=""/>
            <p:cNvPicPr/>
            <p:nvPr/>
          </p:nvPicPr>
          <p:blipFill>
            <a:blip r:embed="rId8"/>
            <a:stretch/>
          </p:blipFill>
          <p:spPr>
            <a:xfrm>
              <a:off x="2971440" y="5288040"/>
              <a:ext cx="1523160" cy="73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295280" y="1752480"/>
            <a:ext cx="6705720" cy="4458600"/>
            <a:chOff x="1295280" y="1752480"/>
            <a:chExt cx="6705720" cy="4458600"/>
          </a:xfrm>
        </p:grpSpPr>
        <p:sp>
          <p:nvSpPr>
            <p:cNvPr id="133" name=""/>
            <p:cNvSpPr/>
            <p:nvPr/>
          </p:nvSpPr>
          <p:spPr>
            <a:xfrm>
              <a:off x="1295280" y="3139560"/>
              <a:ext cx="1600200" cy="33732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e Grinding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5280" y="4328640"/>
              <a:ext cx="1600200" cy="33732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A Grinding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95280" y="5617080"/>
              <a:ext cx="1600200" cy="33732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 Grinding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4280" y="1950480"/>
              <a:ext cx="1600200" cy="33732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p Polishing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57400" y="2544840"/>
              <a:ext cx="0" cy="495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57400" y="3733920"/>
              <a:ext cx="0" cy="495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7400" y="4923000"/>
              <a:ext cx="0" cy="495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39560"/>
              <a:ext cx="1600200" cy="33732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C Grinding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4328640"/>
              <a:ext cx="1600200" cy="58068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al Inspection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24280" y="5517720"/>
              <a:ext cx="1600200" cy="33732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cking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544840"/>
              <a:ext cx="0" cy="495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6400" y="3733920"/>
              <a:ext cx="0" cy="495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4923000"/>
              <a:ext cx="0" cy="49500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6" name="공정순서9" descr=""/>
            <p:cNvPicPr/>
            <p:nvPr/>
          </p:nvPicPr>
          <p:blipFill>
            <a:blip r:embed="rId1"/>
            <a:stretch/>
          </p:blipFill>
          <p:spPr>
            <a:xfrm>
              <a:off x="3048120" y="2941560"/>
              <a:ext cx="152388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공정순서12" descr=""/>
            <p:cNvPicPr/>
            <p:nvPr/>
          </p:nvPicPr>
          <p:blipFill>
            <a:blip r:embed="rId2"/>
            <a:stretch/>
          </p:blipFill>
          <p:spPr>
            <a:xfrm>
              <a:off x="3048120" y="4130640"/>
              <a:ext cx="1523880" cy="85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공정순서13" descr=""/>
            <p:cNvPicPr/>
            <p:nvPr/>
          </p:nvPicPr>
          <p:blipFill>
            <a:blip r:embed="rId3"/>
            <a:stretch/>
          </p:blipFill>
          <p:spPr>
            <a:xfrm>
              <a:off x="3048120" y="5418360"/>
              <a:ext cx="1523880" cy="79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공정순서14" descr=""/>
            <p:cNvPicPr/>
            <p:nvPr/>
          </p:nvPicPr>
          <p:blipFill>
            <a:blip r:embed="rId4"/>
            <a:stretch/>
          </p:blipFill>
          <p:spPr>
            <a:xfrm>
              <a:off x="6477120" y="1752480"/>
              <a:ext cx="152388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공정순서18" descr=""/>
            <p:cNvPicPr/>
            <p:nvPr/>
          </p:nvPicPr>
          <p:blipFill>
            <a:blip r:embed="rId5"/>
            <a:stretch/>
          </p:blipFill>
          <p:spPr>
            <a:xfrm>
              <a:off x="6477120" y="3040200"/>
              <a:ext cx="152388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295280" y="1950480"/>
              <a:ext cx="1600200" cy="58068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side Grinding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52" name="공정순서8" descr=""/>
            <p:cNvPicPr/>
            <p:nvPr/>
          </p:nvPicPr>
          <p:blipFill>
            <a:blip r:embed="rId6"/>
            <a:stretch/>
          </p:blipFill>
          <p:spPr>
            <a:xfrm>
              <a:off x="3048120" y="1851120"/>
              <a:ext cx="1523880" cy="65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1219320" y="1143000"/>
            <a:ext cx="44956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OW-CHART 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05120" y="762120"/>
            <a:ext cx="52578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pillary Production Faciliti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1752480"/>
            <a:ext cx="541008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illary Automatic Grinding mach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7" name="DSC00003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402408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DSC00002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024440" cy="3352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905120" y="1752480"/>
            <a:ext cx="5410080" cy="64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D Non -Touchable Automatic inspection mach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1" name="DSC00008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027680" cy="3352680"/>
          </a:xfrm>
          <a:prstGeom prst="rect">
            <a:avLst/>
          </a:prstGeom>
          <a:ln w="0">
            <a:noFill/>
          </a:ln>
        </p:spPr>
      </p:pic>
      <p:pic>
        <p:nvPicPr>
          <p:cNvPr id="162" name="DSC00009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4019760" cy="3352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914400"/>
            <a:ext cx="5410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pillary Production Faciliti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05120" y="1676520"/>
            <a:ext cx="541008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matic Visual inspection mach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DSC00015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024440" cy="3581640"/>
          </a:xfrm>
          <a:prstGeom prst="rect">
            <a:avLst/>
          </a:prstGeom>
          <a:ln w="0">
            <a:noFill/>
          </a:ln>
        </p:spPr>
      </p:pic>
      <p:pic>
        <p:nvPicPr>
          <p:cNvPr id="167" name="DSC00016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4024440" cy="3581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762120"/>
            <a:ext cx="487656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pillary Production Faciliti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774720"/>
            <a:ext cx="4038480" cy="3988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cadbfe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cess Tes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2021040"/>
            <a:ext cx="1600200" cy="371520"/>
          </a:xfrm>
          <a:prstGeom prst="rect">
            <a:avLst/>
          </a:prstGeom>
          <a:solidFill>
            <a:srgbClr val="ccffff"/>
          </a:solidFill>
          <a:ln cap="sq" w="64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si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ind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276800"/>
            <a:ext cx="1600200" cy="473400"/>
          </a:xfrm>
          <a:prstGeom prst="rect">
            <a:avLst/>
          </a:prstGeom>
          <a:solidFill>
            <a:srgbClr val="ccffff"/>
          </a:solidFill>
          <a:ln cap="sq" w="64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ngth Cutting &amp; Grind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5457960"/>
            <a:ext cx="1600200" cy="473400"/>
          </a:xfrm>
          <a:prstGeom prst="rect">
            <a:avLst/>
          </a:prstGeom>
          <a:solidFill>
            <a:srgbClr val="ccffff"/>
          </a:solidFill>
          <a:ln cap="sq" w="64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ify by Hole S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3657600"/>
            <a:ext cx="0" cy="457200"/>
          </a:xfrm>
          <a:prstGeom prst="line">
            <a:avLst/>
          </a:prstGeom>
          <a:ln cap="sq"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5000760"/>
            <a:ext cx="0" cy="457200"/>
          </a:xfrm>
          <a:prstGeom prst="line">
            <a:avLst/>
          </a:prstGeom>
          <a:ln cap="sq"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3710160"/>
            <a:ext cx="0" cy="457200"/>
          </a:xfrm>
          <a:prstGeom prst="line">
            <a:avLst/>
          </a:prstGeom>
          <a:ln cap="sq"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5005440"/>
            <a:ext cx="0" cy="457200"/>
          </a:xfrm>
          <a:prstGeom prst="line">
            <a:avLst/>
          </a:prstGeom>
          <a:ln cap="sq"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8" name="공정순서3" descr=""/>
          <p:cNvPicPr/>
          <p:nvPr/>
        </p:nvPicPr>
        <p:blipFill>
          <a:blip r:embed="rId1"/>
          <a:stretch/>
        </p:blipFill>
        <p:spPr>
          <a:xfrm>
            <a:off x="2057400" y="5389560"/>
            <a:ext cx="1523880" cy="525600"/>
          </a:xfrm>
          <a:prstGeom prst="rect">
            <a:avLst/>
          </a:prstGeom>
          <a:ln w="0">
            <a:noFill/>
          </a:ln>
        </p:spPr>
      </p:pic>
      <p:pic>
        <p:nvPicPr>
          <p:cNvPr id="179" name="공정순서4" descr=""/>
          <p:cNvPicPr/>
          <p:nvPr/>
        </p:nvPicPr>
        <p:blipFill>
          <a:blip r:embed="rId2"/>
          <a:stretch/>
        </p:blipFill>
        <p:spPr>
          <a:xfrm>
            <a:off x="1981080" y="4191120"/>
            <a:ext cx="1524240" cy="1000080"/>
          </a:xfrm>
          <a:prstGeom prst="rect">
            <a:avLst/>
          </a:prstGeom>
          <a:ln w="0">
            <a:noFill/>
          </a:ln>
        </p:spPr>
      </p:pic>
      <p:pic>
        <p:nvPicPr>
          <p:cNvPr id="180" name="공정순서8" descr=""/>
          <p:cNvPicPr/>
          <p:nvPr/>
        </p:nvPicPr>
        <p:blipFill>
          <a:blip r:embed="rId3"/>
          <a:stretch/>
        </p:blipFill>
        <p:spPr>
          <a:xfrm>
            <a:off x="1981080" y="1857240"/>
            <a:ext cx="1524240" cy="657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8600" y="3117960"/>
            <a:ext cx="1600200" cy="418320"/>
          </a:xfrm>
          <a:prstGeom prst="rect">
            <a:avLst/>
          </a:prstGeom>
          <a:solidFill>
            <a:srgbClr val="ccffff"/>
          </a:solidFill>
          <a:ln cap="sq" w="64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ind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1905120"/>
            <a:ext cx="1066680" cy="418320"/>
          </a:xfrm>
          <a:prstGeom prst="rect">
            <a:avLst/>
          </a:prstGeom>
          <a:solidFill>
            <a:srgbClr val="ccffff"/>
          </a:solidFill>
          <a:ln cap="sq" w="64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ind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024360"/>
            <a:ext cx="1066680" cy="439200"/>
          </a:xfrm>
          <a:prstGeom prst="rect">
            <a:avLst/>
          </a:prstGeom>
          <a:solidFill>
            <a:srgbClr val="ccffff"/>
          </a:solidFill>
          <a:ln cap="sq" w="64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ind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4413240"/>
            <a:ext cx="990720" cy="439200"/>
          </a:xfrm>
          <a:prstGeom prst="rect">
            <a:avLst/>
          </a:prstGeom>
          <a:solidFill>
            <a:srgbClr val="ccffff"/>
          </a:solidFill>
          <a:ln cap="sq" w="64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ind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5614920"/>
            <a:ext cx="1066680" cy="556200"/>
          </a:xfrm>
          <a:prstGeom prst="rect">
            <a:avLst/>
          </a:prstGeom>
          <a:solidFill>
            <a:srgbClr val="ccffff"/>
          </a:solidFill>
          <a:ln cap="sq" w="64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spe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6" name="공정순서9" descr=""/>
          <p:cNvPicPr/>
          <p:nvPr/>
        </p:nvPicPr>
        <p:blipFill>
          <a:blip r:embed="rId4"/>
          <a:stretch/>
        </p:blipFill>
        <p:spPr>
          <a:xfrm>
            <a:off x="1981080" y="3048120"/>
            <a:ext cx="1524240" cy="792000"/>
          </a:xfrm>
          <a:prstGeom prst="rect">
            <a:avLst/>
          </a:prstGeom>
          <a:ln w="0">
            <a:noFill/>
          </a:ln>
        </p:spPr>
      </p:pic>
      <p:pic>
        <p:nvPicPr>
          <p:cNvPr id="187" name="공정순서12" descr=""/>
          <p:cNvPicPr/>
          <p:nvPr/>
        </p:nvPicPr>
        <p:blipFill>
          <a:blip r:embed="rId5"/>
          <a:stretch/>
        </p:blipFill>
        <p:spPr>
          <a:xfrm>
            <a:off x="6248520" y="1752480"/>
            <a:ext cx="1523880" cy="855720"/>
          </a:xfrm>
          <a:prstGeom prst="rect">
            <a:avLst/>
          </a:prstGeom>
          <a:ln w="0">
            <a:noFill/>
          </a:ln>
        </p:spPr>
      </p:pic>
      <p:pic>
        <p:nvPicPr>
          <p:cNvPr id="188" name="공정순서13" descr=""/>
          <p:cNvPicPr/>
          <p:nvPr/>
        </p:nvPicPr>
        <p:blipFill>
          <a:blip r:embed="rId6"/>
          <a:stretch/>
        </p:blipFill>
        <p:spPr>
          <a:xfrm>
            <a:off x="6248520" y="3024360"/>
            <a:ext cx="1523880" cy="792000"/>
          </a:xfrm>
          <a:prstGeom prst="rect">
            <a:avLst/>
          </a:prstGeom>
          <a:ln w="0">
            <a:noFill/>
          </a:ln>
        </p:spPr>
      </p:pic>
      <p:pic>
        <p:nvPicPr>
          <p:cNvPr id="189" name="공정순서18" descr=""/>
          <p:cNvPicPr/>
          <p:nvPr/>
        </p:nvPicPr>
        <p:blipFill>
          <a:blip r:embed="rId7"/>
          <a:stretch/>
        </p:blipFill>
        <p:spPr>
          <a:xfrm>
            <a:off x="6248520" y="3938760"/>
            <a:ext cx="1523880" cy="1387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990720" y="2514600"/>
            <a:ext cx="0" cy="457200"/>
          </a:xfrm>
          <a:prstGeom prst="line">
            <a:avLst/>
          </a:prstGeom>
          <a:ln cap="sq"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212760"/>
            <a:ext cx="5029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ality Control Syste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1952640"/>
            <a:ext cx="106668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utside diameter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Φ 1.583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27480" y="2971800"/>
            <a:ext cx="152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3048120"/>
            <a:ext cx="11430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Tip diamet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Cone ang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Cp, Cp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4343400"/>
            <a:ext cx="129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11.1mm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1905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e ang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7848720" y="3200400"/>
            <a:ext cx="1295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Cp,Cp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7924680" y="4343400"/>
            <a:ext cx="1219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CD, ICA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Cp, Cp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2438280"/>
            <a:ext cx="0" cy="457200"/>
          </a:xfrm>
          <a:prstGeom prst="line">
            <a:avLst/>
          </a:prstGeom>
          <a:ln cap="sq"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1295280"/>
            <a:ext cx="883944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752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17524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1308240"/>
            <a:ext cx="0" cy="50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76920" y="12952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197760" y="175248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7848720" y="1308240"/>
            <a:ext cx="0" cy="50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132084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gress of wor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134136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sur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838080"/>
            <a:ext cx="25909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C Patrol Inspe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spection Cycle : 4th/Day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095560" y="3543480"/>
            <a:ext cx="253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133344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gress of wor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1447920"/>
            <a:ext cx="182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sur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3301920" y="5486400"/>
            <a:ext cx="2667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5410080"/>
            <a:ext cx="31244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pending on condition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523880" y="762120"/>
            <a:ext cx="4343400" cy="3988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cadbfe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going inspe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3429000"/>
            <a:ext cx="0" cy="457200"/>
          </a:xfrm>
          <a:prstGeom prst="line">
            <a:avLst/>
          </a:prstGeom>
          <a:ln cap="sq"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4419720"/>
            <a:ext cx="0" cy="457200"/>
          </a:xfrm>
          <a:prstGeom prst="line">
            <a:avLst/>
          </a:prstGeom>
          <a:ln cap="sq"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898640"/>
            <a:ext cx="1600200" cy="418320"/>
          </a:xfrm>
          <a:prstGeom prst="rect">
            <a:avLst/>
          </a:prstGeom>
          <a:solidFill>
            <a:srgbClr val="ccffff"/>
          </a:solidFill>
          <a:ln cap="sq" w="64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Cone Aangle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T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995560"/>
            <a:ext cx="1067040" cy="200520"/>
          </a:xfrm>
          <a:prstGeom prst="rect">
            <a:avLst/>
          </a:prstGeom>
          <a:solidFill>
            <a:srgbClr val="ccffff"/>
          </a:solidFill>
          <a:ln cap="sq" w="64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4051440"/>
            <a:ext cx="1067040" cy="210960"/>
          </a:xfrm>
          <a:prstGeom prst="rect">
            <a:avLst/>
          </a:prstGeom>
          <a:solidFill>
            <a:srgbClr val="ccffff"/>
          </a:solidFill>
          <a:ln cap="sq" w="64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118120"/>
            <a:ext cx="1523880" cy="210960"/>
          </a:xfrm>
          <a:prstGeom prst="rect">
            <a:avLst/>
          </a:prstGeom>
          <a:solidFill>
            <a:srgbClr val="ccffff"/>
          </a:solidFill>
          <a:ln cap="sq" w="64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CA, C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3" name="공정순서9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1523880" cy="792000"/>
          </a:xfrm>
          <a:prstGeom prst="rect">
            <a:avLst/>
          </a:prstGeom>
          <a:ln w="0">
            <a:noFill/>
          </a:ln>
        </p:spPr>
      </p:pic>
      <p:pic>
        <p:nvPicPr>
          <p:cNvPr id="224" name="공정순서12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1523880" cy="855720"/>
          </a:xfrm>
          <a:prstGeom prst="rect">
            <a:avLst/>
          </a:prstGeom>
          <a:ln w="0">
            <a:noFill/>
          </a:ln>
        </p:spPr>
      </p:pic>
      <p:pic>
        <p:nvPicPr>
          <p:cNvPr id="225" name="공정순서13" descr=""/>
          <p:cNvPicPr/>
          <p:nvPr/>
        </p:nvPicPr>
        <p:blipFill>
          <a:blip r:embed="rId3"/>
          <a:stretch/>
        </p:blipFill>
        <p:spPr>
          <a:xfrm>
            <a:off x="2819520" y="3657600"/>
            <a:ext cx="1523880" cy="792000"/>
          </a:xfrm>
          <a:prstGeom prst="rect">
            <a:avLst/>
          </a:prstGeom>
          <a:ln w="0">
            <a:noFill/>
          </a:ln>
        </p:spPr>
      </p:pic>
      <p:pic>
        <p:nvPicPr>
          <p:cNvPr id="226" name="공정순서18" descr=""/>
          <p:cNvPicPr/>
          <p:nvPr/>
        </p:nvPicPr>
        <p:blipFill>
          <a:blip r:embed="rId4"/>
          <a:stretch/>
        </p:blipFill>
        <p:spPr>
          <a:xfrm>
            <a:off x="2819520" y="4556160"/>
            <a:ext cx="1523880" cy="1387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43000" y="2362320"/>
            <a:ext cx="0" cy="457200"/>
          </a:xfrm>
          <a:prstGeom prst="line">
            <a:avLst/>
          </a:prstGeom>
          <a:ln cap="sq"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12760"/>
            <a:ext cx="56386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ality Control Syste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1295280"/>
            <a:ext cx="883944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16765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16765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1308240"/>
            <a:ext cx="0" cy="50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6705720" y="12952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132084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spection I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13208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pe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12952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mpl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312408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6721200" y="2719440"/>
            <a:ext cx="2137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 O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mpling Inspection b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ribute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Q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4165560" y="1752480"/>
            <a:ext cx="279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3009960" y="2324160"/>
            <a:ext cx="177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30481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pec of mod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676520" y="762120"/>
            <a:ext cx="57909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pillary Lifetime Evalu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17524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.E.M Photos of Bond shape (Model : SZA18P-2000CF-74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1646640" y="5935680"/>
            <a:ext cx="14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66ff"/>
                </a:solidFill>
                <a:latin typeface="Tahoma"/>
              </a:rPr>
              <a:t>＜</a:t>
            </a: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400k bonds</a:t>
            </a:r>
            <a:r>
              <a:rPr b="1" lang="zh-CN" sz="1400" spc="-1" strike="noStrike">
                <a:solidFill>
                  <a:srgbClr val="3366ff"/>
                </a:solidFill>
                <a:latin typeface="Tahoma"/>
              </a:rPr>
              <a:t>＞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3932640" y="5935680"/>
            <a:ext cx="14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66ff"/>
                </a:solidFill>
                <a:latin typeface="Tahoma"/>
              </a:rPr>
              <a:t>＜</a:t>
            </a: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600k bonds</a:t>
            </a:r>
            <a:r>
              <a:rPr b="1" lang="zh-CN" sz="1400" spc="-1" strike="noStrike">
                <a:solidFill>
                  <a:srgbClr val="3366ff"/>
                </a:solidFill>
                <a:latin typeface="Tahoma"/>
              </a:rPr>
              <a:t>＞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6218640" y="5935680"/>
            <a:ext cx="14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66ff"/>
                </a:solidFill>
                <a:latin typeface="Tahoma"/>
              </a:rPr>
              <a:t>＜</a:t>
            </a: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800k bonds</a:t>
            </a:r>
            <a:r>
              <a:rPr b="1" lang="zh-CN" sz="1400" spc="-1" strike="noStrike">
                <a:solidFill>
                  <a:srgbClr val="3366ff"/>
                </a:solidFill>
                <a:latin typeface="Tahoma"/>
              </a:rPr>
              <a:t>＞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295280" y="2286000"/>
            <a:ext cx="6705720" cy="3352680"/>
            <a:chOff x="1295280" y="2286000"/>
            <a:chExt cx="6705720" cy="3352680"/>
          </a:xfrm>
        </p:grpSpPr>
        <p:pic>
          <p:nvPicPr>
            <p:cNvPr id="249" name="400k-ball" descr=""/>
            <p:cNvPicPr/>
            <p:nvPr/>
          </p:nvPicPr>
          <p:blipFill>
            <a:blip r:embed="rId1"/>
            <a:stretch/>
          </p:blipFill>
          <p:spPr>
            <a:xfrm>
              <a:off x="3581280" y="2286000"/>
              <a:ext cx="21337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800k-ball" descr=""/>
            <p:cNvPicPr/>
            <p:nvPr/>
          </p:nvPicPr>
          <p:blipFill>
            <a:blip r:embed="rId2"/>
            <a:stretch/>
          </p:blipFill>
          <p:spPr>
            <a:xfrm>
              <a:off x="5867280" y="2286000"/>
              <a:ext cx="21337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600k-ball" descr=""/>
            <p:cNvPicPr/>
            <p:nvPr/>
          </p:nvPicPr>
          <p:blipFill>
            <a:blip r:embed="rId3"/>
            <a:stretch/>
          </p:blipFill>
          <p:spPr>
            <a:xfrm>
              <a:off x="1295280" y="2286000"/>
              <a:ext cx="21337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400k-stitch" descr=""/>
            <p:cNvPicPr/>
            <p:nvPr/>
          </p:nvPicPr>
          <p:blipFill>
            <a:blip r:embed="rId4"/>
            <a:stretch/>
          </p:blipFill>
          <p:spPr>
            <a:xfrm>
              <a:off x="3581280" y="4038480"/>
              <a:ext cx="21337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800k-stitch" descr=""/>
            <p:cNvPicPr/>
            <p:nvPr/>
          </p:nvPicPr>
          <p:blipFill>
            <a:blip r:embed="rId5"/>
            <a:stretch/>
          </p:blipFill>
          <p:spPr>
            <a:xfrm>
              <a:off x="5867280" y="4038480"/>
              <a:ext cx="21337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600k-sitich" descr=""/>
            <p:cNvPicPr/>
            <p:nvPr/>
          </p:nvPicPr>
          <p:blipFill>
            <a:blip r:embed="rId6"/>
            <a:stretch/>
          </p:blipFill>
          <p:spPr>
            <a:xfrm>
              <a:off x="1295280" y="4038480"/>
              <a:ext cx="213372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838080"/>
            <a:ext cx="5943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pillary Lifetime Evalu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16765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.E.M Photos of capillary tip surface (Model : SZA18P-2000CF-74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2027520" y="6240600"/>
            <a:ext cx="14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66ff"/>
                </a:solidFill>
                <a:latin typeface="Tahoma"/>
              </a:rPr>
              <a:t>＜</a:t>
            </a: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800k bonds</a:t>
            </a:r>
            <a:r>
              <a:rPr b="1" lang="zh-CN" sz="1400" spc="-1" strike="noStrike">
                <a:solidFill>
                  <a:srgbClr val="3366ff"/>
                </a:solidFill>
                <a:latin typeface="Tahoma"/>
              </a:rPr>
              <a:t>＞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5083560" y="6240600"/>
            <a:ext cx="16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66ff"/>
                </a:solidFill>
                <a:latin typeface="Tahoma"/>
              </a:rPr>
              <a:t>＜</a:t>
            </a: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1,200k bonds</a:t>
            </a:r>
            <a:r>
              <a:rPr b="1" lang="zh-CN" sz="1400" spc="-1" strike="noStrike">
                <a:solidFill>
                  <a:srgbClr val="3366ff"/>
                </a:solidFill>
                <a:latin typeface="Tahoma"/>
              </a:rPr>
              <a:t>＞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447920" y="2514600"/>
            <a:ext cx="5715000" cy="3673440"/>
            <a:chOff x="1447920" y="2514600"/>
            <a:chExt cx="5715000" cy="3673440"/>
          </a:xfrm>
        </p:grpSpPr>
        <p:pic>
          <p:nvPicPr>
            <p:cNvPr id="261" name="1000" descr=""/>
            <p:cNvPicPr/>
            <p:nvPr/>
          </p:nvPicPr>
          <p:blipFill>
            <a:blip r:embed="rId1"/>
            <a:stretch/>
          </p:blipFill>
          <p:spPr>
            <a:xfrm>
              <a:off x="1447920" y="2514600"/>
              <a:ext cx="2667240" cy="17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1000-1" descr=""/>
            <p:cNvPicPr/>
            <p:nvPr/>
          </p:nvPicPr>
          <p:blipFill>
            <a:blip r:embed="rId2"/>
            <a:stretch/>
          </p:blipFill>
          <p:spPr>
            <a:xfrm>
              <a:off x="1447920" y="4419720"/>
              <a:ext cx="2667240" cy="17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1200" descr=""/>
            <p:cNvPicPr/>
            <p:nvPr/>
          </p:nvPicPr>
          <p:blipFill>
            <a:blip r:embed="rId3"/>
            <a:stretch/>
          </p:blipFill>
          <p:spPr>
            <a:xfrm>
              <a:off x="4419720" y="2514600"/>
              <a:ext cx="2743200" cy="17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1200-1" descr=""/>
            <p:cNvPicPr/>
            <p:nvPr/>
          </p:nvPicPr>
          <p:blipFill>
            <a:blip r:embed="rId4"/>
            <a:stretch/>
          </p:blipFill>
          <p:spPr>
            <a:xfrm>
              <a:off x="4419720" y="4419720"/>
              <a:ext cx="2743200" cy="176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553760" y="38088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ahoma"/>
              </a:rPr>
              <a:t>1) </a:t>
            </a:r>
            <a:r>
              <a:rPr b="1" lang="en-US" sz="2400" spc="-1" strike="noStrike" u="sng">
                <a:solidFill>
                  <a:srgbClr val="00cc99"/>
                </a:solidFill>
                <a:uFillTx/>
                <a:latin typeface="Tahoma"/>
              </a:rPr>
              <a:t>Ball bonding problem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7" name="hole3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2889360" cy="2189160"/>
          </a:xfrm>
          <a:prstGeom prst="rect">
            <a:avLst/>
          </a:prstGeom>
          <a:ln w="0">
            <a:noFill/>
          </a:ln>
        </p:spPr>
      </p:pic>
      <p:pic>
        <p:nvPicPr>
          <p:cNvPr id="268" name="hole2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2889360" cy="2170080"/>
          </a:xfrm>
          <a:prstGeom prst="rect">
            <a:avLst/>
          </a:prstGeom>
          <a:ln w="0">
            <a:noFill/>
          </a:ln>
        </p:spPr>
      </p:pic>
      <p:pic>
        <p:nvPicPr>
          <p:cNvPr id="269" name="hole1" descr=""/>
          <p:cNvPicPr/>
          <p:nvPr/>
        </p:nvPicPr>
        <p:blipFill>
          <a:blip r:embed="rId3"/>
          <a:stretch/>
        </p:blipFill>
        <p:spPr>
          <a:xfrm>
            <a:off x="1752480" y="4267080"/>
            <a:ext cx="4724640" cy="22100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371600" y="990720"/>
            <a:ext cx="327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66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66ff"/>
                </a:solidFill>
                <a:latin typeface="Tahoma"/>
              </a:rPr>
              <a:t>Hole size is too small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1219320" y="3733920"/>
            <a:ext cx="457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66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66ff"/>
                </a:solidFill>
                <a:latin typeface="Tahoma"/>
              </a:rPr>
              <a:t>Hole size is too larg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ff6699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99"/>
                </a:solidFill>
                <a:latin typeface="Tahoma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The Capillary is used for all types of bonding machine in the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emiconductor assembly process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The main purpose of capillary here is to connect Chip Pad and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Lead Frame by moving the wire through its hol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6699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99"/>
                </a:solidFill>
                <a:latin typeface="Tahoma"/>
              </a:rPr>
              <a:t>Importa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609480"/>
            <a:ext cx="4038480" cy="47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apillary is..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279600"/>
            <a:ext cx="784836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  <a:ea typeface="굴림"/>
              </a:rPr>
              <a:t>The Capillary is very important for successful wire bonding on the chip and lead frame respectively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  <a:ea typeface="굴림"/>
              </a:rPr>
              <a:t>For this reason, it requires all the manufacturers to have a very delicate and sensitive technology involved in making a capillary in deep consideration of bond-ability and Capillary itsel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  <a:ea typeface="굴림"/>
              </a:rPr>
              <a:t>Furthermore, the Capillary are supposed to be in good shape in and out without any contamination and breakage even after 800K bond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  <a:ea typeface="굴림"/>
              </a:rPr>
              <a:t>In this respect, we are able to supply every customer with any type of Capillary with best delivery and price that no one can bea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cd1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2573280" cy="1895400"/>
          </a:xfrm>
          <a:prstGeom prst="rect">
            <a:avLst/>
          </a:prstGeom>
          <a:ln w="0">
            <a:noFill/>
          </a:ln>
        </p:spPr>
      </p:pic>
      <p:pic>
        <p:nvPicPr>
          <p:cNvPr id="274" name="cd2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276360" cy="1920600"/>
          </a:xfrm>
          <a:prstGeom prst="rect">
            <a:avLst/>
          </a:prstGeom>
          <a:ln w="0">
            <a:noFill/>
          </a:ln>
        </p:spPr>
      </p:pic>
      <p:pic>
        <p:nvPicPr>
          <p:cNvPr id="275" name="cd4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2627280" cy="2446560"/>
          </a:xfrm>
          <a:prstGeom prst="rect">
            <a:avLst/>
          </a:prstGeom>
          <a:ln w="0">
            <a:noFill/>
          </a:ln>
        </p:spPr>
      </p:pic>
      <p:pic>
        <p:nvPicPr>
          <p:cNvPr id="276" name="cd5" descr=""/>
          <p:cNvPicPr/>
          <p:nvPr/>
        </p:nvPicPr>
        <p:blipFill>
          <a:blip r:embed="rId4"/>
          <a:stretch/>
        </p:blipFill>
        <p:spPr>
          <a:xfrm>
            <a:off x="5029200" y="4038480"/>
            <a:ext cx="3127320" cy="2362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33520" y="1295280"/>
            <a:ext cx="388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ff"/>
                </a:solidFill>
                <a:latin typeface="Tahoma"/>
              </a:rPr>
              <a:t>▶  </a:t>
            </a:r>
            <a:r>
              <a:rPr b="1" lang="en-US" sz="1200" spc="-1" strike="noStrike">
                <a:solidFill>
                  <a:srgbClr val="6666ff"/>
                </a:solidFill>
                <a:latin typeface="Tahoma"/>
              </a:rPr>
              <a:t>Inner Chamfer angle is too large (120</a:t>
            </a:r>
            <a:r>
              <a:rPr b="1" lang="zh-CN" sz="1200" spc="-1" strike="noStrike" baseline="30000">
                <a:solidFill>
                  <a:srgbClr val="6666ff"/>
                </a:solidFill>
                <a:latin typeface="Tahoma"/>
              </a:rPr>
              <a:t>。</a:t>
            </a:r>
            <a:r>
              <a:rPr b="1" lang="en-US" sz="1200" spc="-1" strike="noStrike">
                <a:solidFill>
                  <a:srgbClr val="6666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6666ff"/>
                </a:solidFill>
                <a:latin typeface="Tahoma"/>
              </a:rPr>
              <a:t>Over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3581280"/>
            <a:ext cx="2743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ff"/>
                </a:solidFill>
                <a:latin typeface="Tahoma"/>
              </a:rPr>
              <a:t>▶  </a:t>
            </a:r>
            <a:r>
              <a:rPr b="1" lang="en-US" sz="1200" spc="-1" strike="noStrike">
                <a:solidFill>
                  <a:srgbClr val="6666ff"/>
                </a:solidFill>
                <a:latin typeface="Tahoma"/>
              </a:rPr>
              <a:t>CD dimension is too lar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648320" y="3657600"/>
            <a:ext cx="4267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ff"/>
                </a:solidFill>
                <a:latin typeface="Tahoma"/>
              </a:rPr>
              <a:t>▶  </a:t>
            </a:r>
            <a:r>
              <a:rPr b="1" lang="en-US" sz="1200" spc="-1" strike="noStrike">
                <a:solidFill>
                  <a:srgbClr val="6666ff"/>
                </a:solidFill>
                <a:latin typeface="Tahoma"/>
              </a:rPr>
              <a:t>This ball bond was made by a worn capilla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1553760" y="45720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ahoma"/>
              </a:rPr>
              <a:t>2) </a:t>
            </a:r>
            <a:r>
              <a:rPr b="1" lang="en-US" sz="2400" spc="-1" strike="noStrike" u="sng">
                <a:solidFill>
                  <a:srgbClr val="00cc99"/>
                </a:solidFill>
                <a:uFillTx/>
                <a:latin typeface="Tahoma"/>
              </a:rPr>
              <a:t>Ball bonding problem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1295280"/>
            <a:ext cx="388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ff"/>
                </a:solidFill>
                <a:latin typeface="Tahoma"/>
              </a:rPr>
              <a:t>▶ </a:t>
            </a:r>
            <a:r>
              <a:rPr b="1" lang="en-US" sz="1200" spc="-1" strike="noStrike">
                <a:solidFill>
                  <a:srgbClr val="6666ff"/>
                </a:solidFill>
                <a:latin typeface="Tahoma"/>
              </a:rPr>
              <a:t>Chamfer diameter is too lar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371600" y="380880"/>
            <a:ext cx="5791320" cy="66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Tahoma"/>
              </a:rPr>
              <a:t>Capacity Delivery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-1143000" y="1219320"/>
            <a:ext cx="45720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0" anchor="t">
            <a:spAutoFit/>
          </a:bodyPr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914400" y="1676520"/>
            <a:ext cx="7543800" cy="2438280"/>
            <a:chOff x="914400" y="1676520"/>
            <a:chExt cx="7543800" cy="2438280"/>
          </a:xfrm>
        </p:grpSpPr>
        <p:sp>
          <p:nvSpPr>
            <p:cNvPr id="286" name=""/>
            <p:cNvSpPr/>
            <p:nvPr/>
          </p:nvSpPr>
          <p:spPr>
            <a:xfrm>
              <a:off x="7315200" y="2087640"/>
              <a:ext cx="114300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15200" y="1676520"/>
              <a:ext cx="1143000" cy="4111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95880" y="2087640"/>
              <a:ext cx="121932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5880" y="1676520"/>
              <a:ext cx="1219320" cy="4111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76920" y="2087640"/>
              <a:ext cx="121896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76920" y="1676520"/>
              <a:ext cx="1218960" cy="4111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81280" y="2087640"/>
              <a:ext cx="129564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81280" y="1676520"/>
              <a:ext cx="1295640" cy="4111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62320" y="2087640"/>
              <a:ext cx="121896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62320" y="1676520"/>
              <a:ext cx="1218960" cy="4111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999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4400" y="2087640"/>
              <a:ext cx="1447920" cy="20271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Tahoma"/>
                </a:rPr>
                <a:t>10,000pcs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Tahoma"/>
                </a:rPr>
                <a:t>30,000pcs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Tahoma"/>
                </a:rPr>
                <a:t>60,000pcs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Tahoma"/>
                </a:rPr>
                <a:t>150,000pcs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Tahoma"/>
                </a:rPr>
                <a:t>250,000pcs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14400" y="1676520"/>
              <a:ext cx="14479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apacity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14400" y="1676520"/>
              <a:ext cx="7543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14400" y="4114800"/>
              <a:ext cx="7543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14400" y="1676520"/>
              <a:ext cx="0" cy="2438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58200" y="1676520"/>
              <a:ext cx="0" cy="2438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208764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62320" y="167652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280" y="167652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76920" y="167652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5880" y="167652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15200" y="167652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362320" y="2362320"/>
            <a:ext cx="12952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2362320" y="2743200"/>
            <a:ext cx="25146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2362320" y="3124080"/>
            <a:ext cx="37335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3505320"/>
            <a:ext cx="12956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7315200" y="396252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-1143000" y="4114800"/>
            <a:ext cx="60958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0" anchor="t">
            <a:spAutoFit/>
          </a:bodyPr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굴림"/>
              </a:rPr>
              <a:t>Delivery Pla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914400" y="4648320"/>
            <a:ext cx="7543440" cy="1708200"/>
            <a:chOff x="914400" y="4648320"/>
            <a:chExt cx="7543440" cy="1708200"/>
          </a:xfrm>
        </p:grpSpPr>
        <p:sp>
          <p:nvSpPr>
            <p:cNvPr id="315" name=""/>
            <p:cNvSpPr/>
            <p:nvPr/>
          </p:nvSpPr>
          <p:spPr>
            <a:xfrm>
              <a:off x="4150800" y="5929560"/>
              <a:ext cx="4307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33cc"/>
                  </a:solidFill>
                  <a:latin typeface="Tahoma"/>
                </a:rPr>
                <a:t>6</a:t>
              </a:r>
              <a:r>
                <a:rPr b="0" lang="en-US" sz="2500" spc="-1" strike="noStrike">
                  <a:solidFill>
                    <a:srgbClr val="000000"/>
                  </a:solidFill>
                  <a:latin typeface="Tahoma"/>
                </a:rPr>
                <a:t>  Working days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50800" y="5502240"/>
              <a:ext cx="430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33cc"/>
                  </a:solidFill>
                  <a:latin typeface="Tahoma"/>
                </a:rPr>
                <a:t>12 </a:t>
              </a:r>
              <a:r>
                <a:rPr b="0" lang="en-US" sz="2500" spc="-1" strike="noStrike">
                  <a:solidFill>
                    <a:srgbClr val="000000"/>
                  </a:solidFill>
                  <a:latin typeface="Tahoma"/>
                </a:rPr>
                <a:t>Working days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50800" y="5075280"/>
              <a:ext cx="4307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33cc"/>
                  </a:solidFill>
                  <a:latin typeface="Tahoma"/>
                </a:rPr>
                <a:t>10</a:t>
              </a:r>
              <a:r>
                <a:rPr b="0" lang="en-US" sz="2500" spc="-1" strike="noStrike">
                  <a:solidFill>
                    <a:srgbClr val="000000"/>
                  </a:solidFill>
                  <a:latin typeface="Tahoma"/>
                </a:rPr>
                <a:t> Working days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50800" y="4648320"/>
              <a:ext cx="4307040" cy="4269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Delivery date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14400" y="5929560"/>
              <a:ext cx="3236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ahoma"/>
                </a:rPr>
                <a:t>Rush Order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14400" y="5502240"/>
              <a:ext cx="32364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ahoma"/>
                </a:rPr>
                <a:t>General Order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14400" y="5075280"/>
              <a:ext cx="3236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ahoma"/>
                </a:rPr>
                <a:t>Sample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14400" y="4648320"/>
              <a:ext cx="3236400" cy="4269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2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14400" y="4648320"/>
              <a:ext cx="7543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14400" y="6356520"/>
              <a:ext cx="7543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14400" y="4648320"/>
              <a:ext cx="0" cy="1708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57840" y="4648320"/>
              <a:ext cx="0" cy="1708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14400" y="5075280"/>
              <a:ext cx="754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4400" y="5502240"/>
              <a:ext cx="754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14400" y="5929560"/>
              <a:ext cx="754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50800" y="4648320"/>
              <a:ext cx="0" cy="170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1447920"/>
            <a:ext cx="1600200" cy="1828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C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J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2133720" y="1447920"/>
            <a:ext cx="1600200" cy="1828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cc99"/>
              </a:gs>
              <a:gs pos="50000">
                <a:srgbClr val="e4f8f3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SO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QF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809880" y="1447920"/>
            <a:ext cx="1600200" cy="1828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cc99"/>
              </a:gs>
              <a:gs pos="50000">
                <a:srgbClr val="b1eed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SO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QF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G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5486400" y="1447920"/>
            <a:ext cx="1600200" cy="1828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cc99"/>
              </a:gs>
              <a:gs pos="50000">
                <a:srgbClr val="98e9d5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BG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BG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μBG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1447920"/>
            <a:ext cx="1600200" cy="1828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cc99"/>
              </a:gs>
              <a:gs pos="50000">
                <a:srgbClr val="7ee4cb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 BG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3505320"/>
            <a:ext cx="8381880" cy="2666880"/>
          </a:xfrm>
          <a:prstGeom prst="rightArrow">
            <a:avLst>
              <a:gd name="adj1" fmla="val 78093"/>
              <a:gd name="adj2" fmla="val 14798"/>
            </a:avLst>
          </a:prstGeom>
          <a:gradFill rotWithShape="0">
            <a:gsLst>
              <a:gs pos="0">
                <a:srgbClr val="ff99cc"/>
              </a:gs>
              <a:gs pos="50000">
                <a:srgbClr val="fed8eb"/>
              </a:gs>
              <a:gs pos="100000">
                <a:srgbClr val="ff99c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426708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:1.3mi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PP:150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㎛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380880"/>
            <a:ext cx="57150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ckage Tren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828800" y="4800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426708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:1.2mi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PP:100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㎛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4267080"/>
            <a:ext cx="1523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:1.2-1.0mi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PP:80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㎛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5715000" y="426708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:1.0mi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PP:60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㎛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26708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:0.8mi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PP:40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㎛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581280" y="4800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934320" y="4800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8458200" y="4800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371600" y="838080"/>
            <a:ext cx="6019920" cy="609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ahoma"/>
              </a:rPr>
              <a:t>Bond Pad Pitch vs. Wire Diameter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523880" y="1393920"/>
          <a:ext cx="7317000" cy="48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3920"/>
                    <a:ext cx="7317000" cy="48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 rot="10800000">
            <a:off x="988920" y="2360160"/>
            <a:ext cx="485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D PITCH(um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6019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EA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2057400" y="304920"/>
            <a:ext cx="44197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Tahoma"/>
              </a:rPr>
              <a:t>R &amp; D Plan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-1219320" y="990720"/>
            <a:ext cx="78487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0" anchor="t">
            <a:spAutoFit/>
          </a:bodyPr>
          <a:p>
            <a:pPr lvl="3" marL="1371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Tahoma"/>
                <a:ea typeface="굴림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  <a:ea typeface="굴림"/>
              </a:rPr>
              <a:t>Bottleneck capillary for ultra fine BPP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85800" y="1371600"/>
            <a:ext cx="7772040" cy="2454120"/>
            <a:chOff x="685800" y="1371600"/>
            <a:chExt cx="7772040" cy="2454120"/>
          </a:xfrm>
        </p:grpSpPr>
        <p:sp>
          <p:nvSpPr>
            <p:cNvPr id="358" name=""/>
            <p:cNvSpPr/>
            <p:nvPr/>
          </p:nvSpPr>
          <p:spPr>
            <a:xfrm>
              <a:off x="7028280" y="3352680"/>
              <a:ext cx="142920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99440" y="3352680"/>
              <a:ext cx="142884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80240" y="3352680"/>
              <a:ext cx="151884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51040" y="3352680"/>
              <a:ext cx="142884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5800" y="3352680"/>
              <a:ext cx="1965240" cy="4730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3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28280" y="2819160"/>
              <a:ext cx="14292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99440" y="2819160"/>
              <a:ext cx="142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80240" y="2819160"/>
              <a:ext cx="151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651040" y="2819160"/>
              <a:ext cx="142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5800" y="2819160"/>
              <a:ext cx="1965240" cy="5335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ahoma"/>
                </a:rPr>
                <a:t>40 ~ 35</a:t>
              </a:r>
              <a:endParaRPr b="0" lang="en-US" sz="23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28280" y="2286000"/>
              <a:ext cx="1429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99440" y="2286000"/>
              <a:ext cx="1428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80240" y="2286000"/>
              <a:ext cx="1518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651040" y="2286000"/>
              <a:ext cx="1428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5800" y="2286000"/>
              <a:ext cx="1965240" cy="5331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ahoma"/>
                </a:rPr>
                <a:t>50 ~ 40</a:t>
              </a:r>
              <a:endParaRPr b="0" lang="en-US" sz="23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28280" y="1782720"/>
              <a:ext cx="1429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28280" y="1371600"/>
              <a:ext cx="1429200" cy="4111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99440" y="1782720"/>
              <a:ext cx="14288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99440" y="1371600"/>
              <a:ext cx="1428840" cy="4111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80240" y="1782720"/>
              <a:ext cx="15188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80240" y="1371600"/>
              <a:ext cx="1518840" cy="4111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51040" y="1782720"/>
              <a:ext cx="14288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51040" y="1371600"/>
              <a:ext cx="1428840" cy="4111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999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5800" y="1782720"/>
              <a:ext cx="1965240" cy="503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igger than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5800" y="1371600"/>
              <a:ext cx="1965240" cy="41112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PP(</a:t>
              </a: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㎛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1371600"/>
              <a:ext cx="7772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3825720"/>
              <a:ext cx="7772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457840" y="1371600"/>
              <a:ext cx="0" cy="24541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5800" y="1782720"/>
              <a:ext cx="777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51040" y="1371600"/>
              <a:ext cx="0" cy="24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80240" y="1371600"/>
              <a:ext cx="0" cy="24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99440" y="1371600"/>
              <a:ext cx="0" cy="24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028280" y="1371600"/>
              <a:ext cx="0" cy="24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5800" y="2286000"/>
              <a:ext cx="777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5800" y="2286000"/>
              <a:ext cx="0" cy="15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5800" y="1371600"/>
              <a:ext cx="0" cy="9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" y="2819160"/>
              <a:ext cx="777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5800" y="3352680"/>
              <a:ext cx="777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362320" y="2057400"/>
            <a:ext cx="25146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>
            <a:off x="4876920" y="2590920"/>
            <a:ext cx="12189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76920" y="3124080"/>
            <a:ext cx="12189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6095880" y="3733920"/>
            <a:ext cx="12193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-1143000" y="3809880"/>
            <a:ext cx="78487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0" anchor="t">
            <a:spAutoFit/>
          </a:bodyPr>
          <a:p>
            <a:pPr lvl="3" marL="13716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Tahoma"/>
                <a:ea typeface="굴림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  <a:ea typeface="굴림"/>
              </a:rPr>
              <a:t>Material development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4191120"/>
            <a:ext cx="7848720" cy="2114280"/>
            <a:chOff x="685800" y="4191120"/>
            <a:chExt cx="7848720" cy="2114280"/>
          </a:xfrm>
        </p:grpSpPr>
        <p:sp>
          <p:nvSpPr>
            <p:cNvPr id="402" name=""/>
            <p:cNvSpPr/>
            <p:nvPr/>
          </p:nvSpPr>
          <p:spPr>
            <a:xfrm>
              <a:off x="6095880" y="5721480"/>
              <a:ext cx="121932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95880" y="5186520"/>
              <a:ext cx="12193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95880" y="4602240"/>
              <a:ext cx="1219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95880" y="4191120"/>
              <a:ext cx="1219320" cy="4111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15200" y="5721480"/>
              <a:ext cx="121932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76920" y="5721480"/>
              <a:ext cx="12189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81280" y="5721480"/>
              <a:ext cx="1295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62320" y="5721480"/>
              <a:ext cx="12189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5800" y="5721480"/>
              <a:ext cx="1676520" cy="583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ltra Extreme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eramic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15200" y="5186520"/>
              <a:ext cx="12193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76920" y="5186520"/>
              <a:ext cx="12189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81280" y="5186520"/>
              <a:ext cx="12956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62320" y="5186520"/>
              <a:ext cx="12189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5800" y="5186520"/>
              <a:ext cx="1676520" cy="534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xtreme Ceramic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15200" y="4602240"/>
              <a:ext cx="1219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15200" y="4191120"/>
              <a:ext cx="1219320" cy="4111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76920" y="4602240"/>
              <a:ext cx="12189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76920" y="4191120"/>
              <a:ext cx="1218960" cy="4111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81280" y="4602240"/>
              <a:ext cx="1295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81280" y="4191120"/>
              <a:ext cx="1295640" cy="4111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62320" y="4602240"/>
              <a:ext cx="12189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62320" y="4191120"/>
              <a:ext cx="1218960" cy="4111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999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5800" y="4602240"/>
              <a:ext cx="1676520" cy="584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ahoma"/>
                </a:rPr>
                <a:t>Zirconia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Tahoma"/>
                </a:rPr>
                <a:t>&amp;Alumina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4191120"/>
              <a:ext cx="1676520" cy="41112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aterial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" y="4191120"/>
              <a:ext cx="7848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5800" y="6305400"/>
              <a:ext cx="7848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534520" y="4191120"/>
              <a:ext cx="0" cy="2114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5800" y="4602240"/>
              <a:ext cx="784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62320" y="4191120"/>
              <a:ext cx="0" cy="21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81280" y="4191120"/>
              <a:ext cx="0" cy="21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76920" y="4191120"/>
              <a:ext cx="0" cy="21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5880" y="4191120"/>
              <a:ext cx="0" cy="21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5800" y="5186520"/>
              <a:ext cx="784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5800" y="5186520"/>
              <a:ext cx="0" cy="11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5800" y="4191120"/>
              <a:ext cx="0" cy="995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5800" y="5721480"/>
              <a:ext cx="784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15200" y="4191120"/>
              <a:ext cx="0" cy="21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2362320" y="4952880"/>
            <a:ext cx="12189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3581280" y="5486400"/>
            <a:ext cx="25146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5181480" y="6019920"/>
            <a:ext cx="33530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09480" y="838080"/>
            <a:ext cx="7086600" cy="609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Woncosa Capillary Life Time Evalu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304920" y="1523880"/>
          <a:ext cx="88390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839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1447920" y="762120"/>
          <a:ext cx="6200640" cy="53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620064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1828800" y="990720"/>
          <a:ext cx="5486400" cy="35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0720"/>
                    <a:ext cx="548640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1828800" y="3886200"/>
          <a:ext cx="5481720" cy="267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886200"/>
                    <a:ext cx="5481720" cy="26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1066680" y="914400"/>
          <a:ext cx="640080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64008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1143000" y="1143000"/>
          <a:ext cx="7356600" cy="49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73566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6000"/>
          </a:bodyPr>
          <a:p>
            <a:pPr lvl="1" marL="341640" indent="-131400">
              <a:lnSpc>
                <a:spcPct val="110000"/>
              </a:lnSpc>
              <a:spcBef>
                <a:spcPts val="451"/>
              </a:spcBef>
              <a:buClr>
                <a:srgbClr val="ff6699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699"/>
                </a:solidFill>
                <a:latin typeface="Tahoma"/>
              </a:rPr>
              <a:t>Raw-material</a:t>
            </a:r>
            <a:r>
              <a:rPr b="1" lang="ko-KR" sz="1800" spc="-1" strike="noStrike">
                <a:solidFill>
                  <a:srgbClr val="80808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341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Woncosa Capillaries are formed out of an ultra pure 99.99% Alumin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341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powder and Zirconia composite(AZ) material with special additives t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341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make its density, hardness and fracture toughness more strong than any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341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other products in the worl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3416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341640" indent="-131400">
              <a:lnSpc>
                <a:spcPct val="110000"/>
              </a:lnSpc>
              <a:spcBef>
                <a:spcPts val="451"/>
              </a:spcBef>
              <a:buClr>
                <a:srgbClr val="ff6699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699"/>
                </a:solidFill>
                <a:latin typeface="Tahoma"/>
              </a:rPr>
              <a:t>Excellence of Woncosa Capillar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341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Woncosa Capillary are capable of being used up to 1,200K bond at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341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maximum in the production line without any yield loss and is als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341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resistant to wear-out together with strong metaliz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341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As a result of this, Woncosa Capillary is best quality of the model being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341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ko-KR" sz="1600" spc="-1" strike="noStrike">
                <a:solidFill>
                  <a:srgbClr val="0000ff"/>
                </a:solidFill>
                <a:latin typeface="Tahoma"/>
              </a:rPr>
              <a:t>introduced in the market as of the mome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34164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914400"/>
            <a:ext cx="4953240" cy="47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ahoma"/>
              </a:rPr>
              <a:t>Woncosa Capillary is..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978600" cy="50194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1143000" y="5562720"/>
            <a:ext cx="2666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762120" y="685800"/>
            <a:ext cx="662940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Information for Woncosa Capillary Part No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371600" y="1523880"/>
          <a:ext cx="611496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114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1371600" y="3733920"/>
          <a:ext cx="6114960" cy="1447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733920"/>
                    <a:ext cx="61149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371600" y="5423040"/>
          <a:ext cx="4619520" cy="1127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5423040"/>
                    <a:ext cx="461952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762120" y="1066680"/>
            <a:ext cx="609588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pillary Design Technolog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3" name="역할1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343400" cy="42656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685800" y="6629400"/>
            <a:ext cx="5791320" cy="228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990720" y="3581280"/>
          <a:ext cx="600048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81280"/>
                    <a:ext cx="60004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990720" y="5257800"/>
          <a:ext cx="6248160" cy="1295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257800"/>
                    <a:ext cx="6248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990720" y="838080"/>
          <a:ext cx="6438960" cy="2686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838080"/>
                    <a:ext cx="643896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2" name=""/>
          <p:cNvGraphicFramePr/>
          <p:nvPr/>
        </p:nvGraphicFramePr>
        <p:xfrm>
          <a:off x="1295280" y="1143000"/>
          <a:ext cx="6553440" cy="517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655344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380880"/>
            <a:ext cx="5562720" cy="398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 the material propert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219320"/>
            <a:ext cx="6858000" cy="3708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 the process and raise the density and hardness by Zr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828800"/>
            <a:ext cx="6934320" cy="353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parative analysis the case of A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Zr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ith and without Zr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76520" y="2590920"/>
          <a:ext cx="593712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593712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648320" y="2057400"/>
          <a:ext cx="4114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114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90720" y="914400"/>
            <a:ext cx="640080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aring with others on material propert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687960" y="3269160"/>
            <a:ext cx="7560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"/>
              </a:rPr>
              <a:t>Hardness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"/>
              </a:rPr>
              <a:t>(Gpa)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2057400"/>
          <a:ext cx="3962160" cy="407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057400"/>
                    <a:ext cx="396216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95280" y="685800"/>
            <a:ext cx="49532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ll Grain Growth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2362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Size of Gr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소셜온도설정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4789440" cy="3537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32760" y="4863960"/>
            <a:ext cx="732168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Function of Zirconia(ZrO</a:t>
            </a:r>
            <a:r>
              <a:rPr b="1" lang="ko-KR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) 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ko-KR" sz="1800" spc="-1" strike="noStrike">
                <a:solidFill>
                  <a:srgbClr val="3366ff"/>
                </a:solidFill>
                <a:latin typeface="Tahoma"/>
              </a:rPr>
              <a:t>Restrain Al</a:t>
            </a:r>
            <a:r>
              <a:rPr b="0" lang="ko-KR" sz="1800" spc="-1" strike="noStrike" baseline="-25000">
                <a:solidFill>
                  <a:srgbClr val="3366ff"/>
                </a:solidFill>
                <a:latin typeface="Tahoma"/>
              </a:rPr>
              <a:t>2</a:t>
            </a:r>
            <a:r>
              <a:rPr b="0" lang="ko-KR" sz="1800" spc="-1" strike="noStrike">
                <a:solidFill>
                  <a:srgbClr val="3366ff"/>
                </a:solidFill>
                <a:latin typeface="Tahoma"/>
              </a:rPr>
              <a:t>O</a:t>
            </a:r>
            <a:r>
              <a:rPr b="0" lang="ko-KR" sz="1800" spc="-1" strike="noStrike" baseline="-25000">
                <a:solidFill>
                  <a:srgbClr val="3366ff"/>
                </a:solidFill>
                <a:latin typeface="Tahoma"/>
              </a:rPr>
              <a:t>3</a:t>
            </a:r>
            <a:r>
              <a:rPr b="0" lang="ko-KR" sz="1800" spc="-1" strike="noStrike">
                <a:solidFill>
                  <a:srgbClr val="3366ff"/>
                </a:solidFill>
                <a:latin typeface="Tahoma"/>
              </a:rPr>
              <a:t> from strange growt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ko-KR" sz="1800" spc="-1" strike="noStrike">
                <a:solidFill>
                  <a:srgbClr val="3366ff"/>
                </a:solidFill>
                <a:latin typeface="Tahoma"/>
              </a:rPr>
              <a:t>Zirconia provide protection the grain from the external stress fo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66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3366ff"/>
                </a:solidFill>
                <a:latin typeface="Tahoma"/>
              </a:rPr>
              <a:t>the higher toughness property by Micro Cra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6459840" y="2887560"/>
            <a:ext cx="173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ahoma"/>
              </a:rPr>
              <a:t>[ under 1</a:t>
            </a:r>
            <a:r>
              <a:rPr b="1" lang="zh-CN" sz="2000" spc="-1" strike="noStrike">
                <a:solidFill>
                  <a:srgbClr val="3333ff"/>
                </a:solidFill>
                <a:latin typeface="Tahoma"/>
              </a:rPr>
              <a:t>㎛ </a:t>
            </a:r>
            <a:r>
              <a:rPr b="1" lang="en-US" sz="2000" spc="-1" strike="noStrike">
                <a:solidFill>
                  <a:srgbClr val="3333ff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1143000"/>
            <a:ext cx="74678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move the pore of the FA by precise Grain Growth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2133720"/>
            <a:ext cx="8229240" cy="3588480"/>
            <a:chOff x="457200" y="2133720"/>
            <a:chExt cx="8229240" cy="3588480"/>
          </a:xfrm>
        </p:grpSpPr>
        <p:sp>
          <p:nvSpPr>
            <p:cNvPr id="72" name=""/>
            <p:cNvSpPr/>
            <p:nvPr/>
          </p:nvSpPr>
          <p:spPr>
            <a:xfrm>
              <a:off x="1756440" y="5323320"/>
              <a:ext cx="21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Tahoma"/>
                </a:rPr>
                <a:t>Before improve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64920" y="5240880"/>
              <a:ext cx="195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Tahoma"/>
                </a:rPr>
                <a:t>After improve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74" name="8차2" descr=""/>
            <p:cNvPicPr/>
            <p:nvPr/>
          </p:nvPicPr>
          <p:blipFill>
            <a:blip r:embed="rId1"/>
            <a:stretch/>
          </p:blipFill>
          <p:spPr>
            <a:xfrm>
              <a:off x="457200" y="2133720"/>
              <a:ext cx="4068720" cy="31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1" descr=""/>
            <p:cNvPicPr/>
            <p:nvPr/>
          </p:nvPicPr>
          <p:blipFill>
            <a:blip r:embed="rId2"/>
            <a:stretch/>
          </p:blipFill>
          <p:spPr>
            <a:xfrm>
              <a:off x="4688640" y="2133720"/>
              <a:ext cx="3997800" cy="314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85800" y="1752480"/>
          <a:ext cx="3591000" cy="28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591000" cy="28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876920" y="1752480"/>
            <a:ext cx="3657600" cy="2819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38080" y="51814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Tahoma"/>
              </a:rPr>
              <a:t>FINE PITCH (bottleneck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52578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Tahoma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80880"/>
            <a:ext cx="6782040" cy="685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apillary SEM Photos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457200"/>
            <a:ext cx="6705720" cy="533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illary Manufacturing Process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295280"/>
            <a:ext cx="49528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OW - CHART 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133720" y="2278080"/>
            <a:ext cx="6159960" cy="3801240"/>
            <a:chOff x="2133720" y="2278080"/>
            <a:chExt cx="6159960" cy="3801240"/>
          </a:xfrm>
        </p:grpSpPr>
        <p:sp>
          <p:nvSpPr>
            <p:cNvPr id="87" name=""/>
            <p:cNvSpPr/>
            <p:nvPr/>
          </p:nvSpPr>
          <p:spPr>
            <a:xfrm>
              <a:off x="2133720" y="2313000"/>
              <a:ext cx="1600200" cy="33732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ow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33720" y="3227400"/>
              <a:ext cx="1600200" cy="58068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ixing Pow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33720" y="4065480"/>
              <a:ext cx="1600200" cy="33732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rynes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33720" y="4903560"/>
              <a:ext cx="1600200" cy="33732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lding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33720" y="5742000"/>
              <a:ext cx="1600200" cy="337320"/>
            </a:xfrm>
            <a:prstGeom prst="rect">
              <a:avLst/>
            </a:prstGeom>
            <a:solidFill>
              <a:srgbClr val="ccffff"/>
            </a:solidFill>
            <a:ln cap="sq" w="64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intering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95480" y="2693880"/>
              <a:ext cx="0" cy="3805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95480" y="3608280"/>
              <a:ext cx="0" cy="3805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95480" y="4446360"/>
              <a:ext cx="0" cy="3808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95480" y="5284800"/>
              <a:ext cx="0" cy="3805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86200" y="2465280"/>
              <a:ext cx="9907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86200" y="4217760"/>
              <a:ext cx="9907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86200" y="5056200"/>
              <a:ext cx="9907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86200" y="5894280"/>
              <a:ext cx="9907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86200" y="3379680"/>
              <a:ext cx="9907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46480" y="2278080"/>
              <a:ext cx="2103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(99.99%),  Zr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03560" y="3192120"/>
              <a:ext cx="339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all Mill Process, Binder annexing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36760" y="4030560"/>
              <a:ext cx="20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ray Dryer Proces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91400" y="4868640"/>
              <a:ext cx="25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il Compression Molding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06600" y="5719680"/>
              <a:ext cx="183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00℃ ∼ 1650℃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57200" y="6705720"/>
            <a:ext cx="5867280" cy="149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3T04:39:14Z</dcterms:created>
  <dc:creator>박경순</dc:creator>
  <dc:description/>
  <dc:language>en-US</dc:language>
  <cp:lastModifiedBy>Phicom</cp:lastModifiedBy>
  <dcterms:modified xsi:type="dcterms:W3CDTF">2001-09-25T07:18:35Z</dcterms:modified>
  <cp:revision>28</cp:revision>
  <dc:subject/>
  <dc:title>PowerPoint 프레젠테이션</dc:title>
</cp:coreProperties>
</file>